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44BC-3A4E-46D0-8937-7CC56F387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DFF-2AA9-4955-9A6B-34661E8B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ED9-41DB-4F3B-80E7-B68250D0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002-82B3-4FB1-92F6-A89F63D5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18F-76A0-4A14-A219-B753C5FE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15E-60A8-4100-98F3-391D6EDF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99F-AE7B-4CB2-83AA-96D2C68A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759-2740-4FE1-970D-F91AE1D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FA1-066E-4FC1-8696-3F66A1DB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200-117A-4765-994E-C70D3BF5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8DC-D381-49EF-9178-B035E5CF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A9D-AAC9-44E9-9AEF-D437B4C9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987-6B84-439D-AF52-D3D7B2DF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CF4B-4A3E-4609-8AD6-BEFCB2E00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17.xml"/><Relationship Id="rId4" Type="http://schemas.openxmlformats.org/officeDocument/2006/relationships/slide" Target="slide22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" Target="slide18.xml"/><Relationship Id="rId8" Type="http://schemas.openxmlformats.org/officeDocument/2006/relationships/slide" Target="slide23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24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arts of a Book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2387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o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ont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d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br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640" y="1295280"/>
            <a:ext cx="767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page is located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ront of the book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ins chapter titles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age numbers 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y can be found in the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0200" y="609480"/>
            <a:ext cx="57913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introductory part of the book in which the author acknowledges others for their help and encourage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1066680"/>
            <a:ext cx="586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section of the book is located near the back of the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provides key words from th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ong with brief definition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76520" y="1752480"/>
            <a:ext cx="5333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brief summary of the book often found on the book j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 on the back of the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1600200"/>
            <a:ext cx="6151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ist of sources (books, websites, magazines, etc.) used to g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tion for the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19320" y="1652760"/>
            <a:ext cx="70866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ection in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 of the book t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s key topics of th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the pages where tho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ics can be found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09680" y="17524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19320" y="609480"/>
            <a:ext cx="6400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is supplemental material, found at the end of the book, often contains charts, graphs, tables, etc. related to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tion of the text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9880" y="1752480"/>
            <a:ext cx="7395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are usually f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book in large or b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t at the beginning of 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of the book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447920"/>
            <a:ext cx="8177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are th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neath a photograph, chart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 map explaining what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ppening in the picture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lustration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828800"/>
            <a:ext cx="5638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type of print is used in texts to make word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tand 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r appea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arg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57280" y="2514600"/>
            <a:ext cx="642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book of map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380880"/>
            <a:ext cx="6477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the paper or pla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ted covering of a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t is found on the outs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book which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itle of the book, the author, a colorful photo, and often a brief synopsis of the book and some biographical information on the author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175248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sentence of a paragraph that gives the main idea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92640" y="1671480"/>
            <a:ext cx="60696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book writt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 a person b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one else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1219320"/>
            <a:ext cx="6086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book writt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 a person b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t pers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143000"/>
            <a:ext cx="5334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book that contains information that is not fiction; the information contained is true and real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09680" y="17524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57400" y="838080"/>
            <a:ext cx="495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 book that contains information that is made up from the author’s imagin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1219320"/>
            <a:ext cx="7105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ype of book in the library including atlases, almanacs, dictionaries, encyclopedias, and thesauruses.  These books are not meant to be taken from the libra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arts of a Book Jeopard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990720"/>
          <a:ext cx="8381880" cy="57466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ference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o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ont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d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br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loss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ap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d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cyclop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so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nop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tobi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ctio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dication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bli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ld 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F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sau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ok Jac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man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face  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w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end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pic Sen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600200"/>
            <a:ext cx="7086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books are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phabetically arranged set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d to find facts about people, place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nts, or th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205740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phabetically arranged book containing word spellings, pronunciations, parts of speech, and the defini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1447920"/>
            <a:ext cx="6019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 containing synonyms and antonyms of particular words.  Can be helpful in adding variety to your writ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1143000"/>
            <a:ext cx="5410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 containing information and statistics about popular events. Usually an update is published each y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52480" y="762120"/>
            <a:ext cx="5639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“business p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 the book, this is one of the first few pages of a book, containing the title, author, publisher, and the place of public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066680"/>
            <a:ext cx="53337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everse of the Title Page, this page usually co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pyright d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914400"/>
            <a:ext cx="6400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nformation, located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ont of the book, is written by the author or another authorit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on which gives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for the book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Marla Moore</cp:lastModifiedBy>
  <dcterms:modified xsi:type="dcterms:W3CDTF">2009-04-03T19:19:01Z</dcterms:modified>
  <cp:revision>60</cp:revision>
  <dc:subject/>
  <dc:title>Slide 1</dc:title>
</cp:coreProperties>
</file>